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5th%20Grader%20Short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D5ED-1EF5-48E4-9EA6-E07DC89A4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870C-1189-47DF-9990-78126232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E113-5F93-496D-B0FB-9EDB7205A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6E5C-437E-42DF-AC3F-0FBA04AD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D232-BE53-467D-82C6-E43834C3B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0AA2-595B-446C-BC56-1D1672BC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3FC5-B72A-4376-9108-1109C9D3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3210-4099-4CFF-BA7A-F31775FA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F057-0C98-482B-8AFF-DF3A2544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9861-0F5E-4408-8D57-7CD9A745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9DC8-18C6-40CC-BF9C-76FF7C68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BA81-86D2-44CA-A56F-5723F855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DD01-336C-49D0-AEF4-34A0333F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25DB-748D-4AA9-B0CB-E64EC41E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7063-5575-43B6-8546-CC88BBEC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7A6A-9515-461F-BD0E-F4A4D7AD5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96F2-72D7-4615-9DFC-BC7613A7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73C6-908F-438D-B15B-DA30171A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A10C-CA59-4A37-870A-314D00A7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54DE-AF50-4ED6-ABB5-6C562073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523A-5A0A-4EBA-B1B0-059D13A3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9728-B378-4899-9F77-818F8CAA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50CC-89A5-4CAE-9E77-489FB318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FFE2-4BE3-4746-BE2C-3488E938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66000"/>
          </a:bodyPr>
          <a:p>
            <a:pPr marL="226080" indent="-226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90320" indent="-1886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754200" indent="-15084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055880" indent="-15084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357560" indent="-15084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4560-40DB-49C8-95B1-2AEA419A45C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44D0-AEF6-4ECF-89BF-6D5FE68E1F7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1.xml"/><Relationship Id="rId3" Type="http://schemas.openxmlformats.org/officeDocument/2006/relationships/slide" Target="slide7.xml"/><Relationship Id="rId4" Type="http://schemas.openxmlformats.org/officeDocument/2006/relationships/slide" Target="slide3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re You Smart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an a 5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2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illing Mrs. Jo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is in the group that comes to save Pip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1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rbert, Startop, and Trabb’s S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w did they know that Pip was at the Sluice hous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y found a mysterious note addressed to Pip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ere does Pip pick Magwitch up on the riv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1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ara’s Hous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2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Orlicks reason for seeking revenge on Pip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2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 claimed that Pip came between him and his lov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dare you com between me and a young woman I liked?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Orlic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1 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w badly did Orlick hurt Pip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500"/>
            </a:gs>
            <a:gs pos="50000">
              <a:srgbClr val="408000"/>
            </a:gs>
            <a:gs pos="100000">
              <a:srgbClr val="020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e You Smarter Than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76320" y="228600"/>
            <a:ext cx="1600200" cy="457200"/>
          </a:xfrm>
          <a:prstGeom prst="rect">
            <a:avLst/>
          </a:prstGeom>
          <a:solidFill>
            <a:srgbClr val="0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1,0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16765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5th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16765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th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264780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4th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264780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4th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361944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rd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361944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rd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459108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nd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459108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2nd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55627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st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55627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1st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5240" y="80028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13874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3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197316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17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25606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1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31478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73392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43210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1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490680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549432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14" action="ppaction://hlinksldjump"/>
          </p:cNvPr>
          <p:cNvSpPr/>
          <p:nvPr/>
        </p:nvSpPr>
        <p:spPr>
          <a:xfrm>
            <a:off x="152280" y="608184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 hurt his arm, but he had no major injuri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>
            <a:hlinkClick r:id="rId3" action="ppaction://hlinksldjump"/>
          </p:cNvPr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month was it when Pip, Herbert, Magwitch, and Startop are on the riv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rch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t was one of those march days when the sun shines hot and the wind blows cold- when it is summer in the light and winter in the shade.”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">
            <a:hlinkClick r:id="rId2" action="ppaction://hlinksldjump"/>
          </p:cNvPr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illion Dollar Ques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code the hidden message…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retg teaixapcots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yb ahelcrs kesnic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Great Expectation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y Charles Dicken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s for Playing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attacks Pip at the Sluice Hous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olge Orlick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does magwitch attack from the rowboa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2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peys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1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promise that Pip makes to Magwitch before he is taken away to jail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1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 promises to stand by him, he says “I will never stir from your side, when I am suffered to be near you. Please God, I will be as true to you as you have been to me!”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does Orlick confess to doing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20:28:24Z</dcterms:created>
  <dc:creator>Gary Bodenschatz</dc:creator>
  <dc:description/>
  <dc:language>en-US</dc:language>
  <cp:lastModifiedBy>lynn</cp:lastModifiedBy>
  <dcterms:modified xsi:type="dcterms:W3CDTF">2009-03-15T17:01:38Z</dcterms:modified>
  <cp:revision>29</cp:revision>
  <dc:subject/>
  <dc:title>Are You Smarter  Than a 5th Grader?</dc:title>
</cp:coreProperties>
</file>